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A9A-EE18-4E5C-9993-B337AA50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6B4-9CEE-4AB2-8B55-514DE3CE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D62-641B-4E47-9F9A-0F9A1839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BEEB-5FD4-487B-993F-915FB3B0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65D4-40A5-4030-B37A-808860D7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66AB-A612-408C-8C30-420F107C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BBF7-20F2-4842-A9D4-B920C503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2773-16D3-453B-919D-027FB33E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794C-5484-4E8C-9E87-5FB0EB9A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2CC2-6D8F-4DA1-AE77-BAD97C93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D7A1-180F-4E58-A809-CBEC6C9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708-117A-4053-BC72-CAC8755A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FF06-FAF7-46E3-B84A-A3E9C778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894E-0DD6-4B69-A50D-FA4D46C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7204-8E72-41CC-A6C3-2FF1ECCB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2269-FF45-46E0-ABB3-75AC21F5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4A2B-C3D9-480A-BE99-0D1C288F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AFE-A679-42BE-8072-1592F639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852-B5F8-4612-B79A-9F7F550B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639-0425-4630-97B6-D7656238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ACD-CE55-4DAF-BB45-04943404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173-642B-4330-948B-BF3D68AD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A3E-1D9D-4813-BE71-FCB3A20A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5A3-5375-4608-8C7B-5841E842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D7C2-DAC7-4452-B84B-C9675A98B3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F436-2255-4F77-81E2-635C034026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65680" y="457200"/>
          <a:ext cx="141120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5680" y="457200"/>
                    <a:ext cx="141120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2789280"/>
            <a:ext cx="863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492b0"/>
                </a:solidFill>
                <a:latin typeface="Arial Black"/>
              </a:rPr>
              <a:t>Group 4 Proje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Process to Identify a group 4 Project (cont.)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Step 4: Narrow it down to a focused question, e.g., How can agriculture help reduce pollution?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Step 5: Students in each subject come up with issues in their own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Black"/>
              </a:rPr>
              <a:t>and create a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Step 6: Students in each subject narrow these down to what they can collect in terms of data and investig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~AUT0029" descr=""/>
          <p:cNvPicPr/>
          <p:nvPr/>
        </p:nvPicPr>
        <p:blipFill>
          <a:blip r:embed="rId1"/>
          <a:stretch/>
        </p:blipFill>
        <p:spPr>
          <a:xfrm>
            <a:off x="1295280" y="0"/>
            <a:ext cx="7239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road Topic: Sick Building Syndrom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 Black"/>
              </a:rPr>
              <a:t>Focused Question: How do the environmental conditions in a given building cause illnes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Black"/>
              </a:rPr>
              <a:t>Biology issues:</a:t>
            </a: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  Survey of symptoms, research into existing medical data: studies of respiratory illnesses, research on organisms --cause/eff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6600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Black"/>
              </a:rPr>
              <a:t>Chemistry Issues: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 Call Health Department to find out tests for sick building e.g. in humidity studies, harmful gases,, etc. CO, CO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Arial Black"/>
              </a:rPr>
              <a:t>2</a:t>
            </a:r>
            <a:r>
              <a:rPr b="1" lang="en-US" sz="1800" spc="-1" strike="noStrike">
                <a:solidFill>
                  <a:srgbClr val="006600"/>
                </a:solidFill>
                <a:latin typeface="Arial Black"/>
              </a:rPr>
              <a:t>, particulates, water analysis, investigations of Brownian motion; Rn detection, condensation patter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a50021"/>
              </a:buClr>
              <a:buSzPct val="6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Black"/>
              </a:rPr>
              <a:t>Physics Issues:</a:t>
            </a:r>
            <a:r>
              <a:rPr b="1" lang="en-US" sz="1800" spc="-1" strike="noStrike">
                <a:solidFill>
                  <a:srgbClr val="a50021"/>
                </a:solidFill>
                <a:latin typeface="Arial Black"/>
              </a:rPr>
              <a:t> measurement of electromagnetic fields, air flow patterns, R factors, temperature of the buil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Examples of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Arial Black"/>
              </a:rPr>
              <a:t>Group 4 Project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0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Natural &amp; Synthetic Fi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400 m Running R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A study of an Estu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School Swimming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aper Recyc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effect of Caffeine on the Human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Petroleum and the Automob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he Classroom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Transport to 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 4 Project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ool Garb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healthy is our Schoo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lution in City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e Energy Sources for the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er /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e St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a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cience of Toys / Thrill R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idence of particip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ahoma"/>
              </a:rPr>
              <a:t>Individual-statement written by the student about his/her own individual contributions- (Your Journ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ndividual-ABSTRA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oup-poster produced by the group that includes the participation of the candidate whose work is being s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TART YOUR GROUP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ahoma"/>
              </a:rPr>
              <a:t>Form a group of 4 that contains at least one biologist, one chemist, and one physic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ilosop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01132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ientific investigations of today involv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eamwork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ich , like the Group 4 Project, is interdisciplina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underpinnings of teamwork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mmunic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respect for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Nature of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322000"/>
            <a:ext cx="849780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248"/>
                </a:solidFill>
                <a:latin typeface="Arial Black"/>
              </a:rPr>
              <a:t>Collaborative experi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Interdisciplinary co-ope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‘</a:t>
            </a: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Real Science’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Black"/>
              </a:rPr>
              <a:t>Processes, not Produ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76320" y="380880"/>
          <a:ext cx="914400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914400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934320" y="5226120"/>
            <a:ext cx="19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33526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6 -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Planning (2 – 3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65648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the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Resear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Brainstorm Specific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Develop a Hypo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haring of information &amp;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finition of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475000"/>
            <a:ext cx="84978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Develop subject-specific questions to answer and 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a subject specific hypothesi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 Black"/>
              </a:rPr>
              <a:t>Define specific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Action (6 - 9 hours)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72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Separate subject investig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As individuals o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Black"/>
              </a:rPr>
              <a:t>Each science requires its own invest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aluation (2 – 3 hou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haring findings (successes, failures and prog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Format: Science Fair, Pos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4120" y="2209680"/>
          <a:ext cx="380988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09680"/>
                    <a:ext cx="380988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17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Example of Process to Identify a group 4 Project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2097000"/>
            <a:ext cx="865008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Step 1: Identify major topics: e.g., body, pollution, water, recycling, air, energy, nutrition, waste, agricul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ep 2: concentrate on a few topics: Pollution, Agriculture, nutr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Black"/>
              </a:rPr>
              <a:t>Step 3: Narrow topic down to one: e.g., Agriculture</a:t>
            </a:r>
            <a:r>
              <a:rPr b="1" lang="en-US" sz="3200" spc="-1" strike="noStrike">
                <a:solidFill>
                  <a:srgbClr val="006600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37:08Z</dcterms:created>
  <dc:creator>Upper Canada College</dc:creator>
  <dc:description/>
  <dc:language>en-US</dc:language>
  <cp:lastModifiedBy>TDSB</cp:lastModifiedBy>
  <cp:lastPrinted>2009-04-22T19:24:48Z</cp:lastPrinted>
  <dcterms:modified xsi:type="dcterms:W3CDTF">2005-05-27T12:59:45Z</dcterms:modified>
  <cp:revision>42</cp:revision>
  <dc:subject/>
  <dc:title>PowerPoint Presentation</dc:title>
</cp:coreProperties>
</file>